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521E-9A5E-4B7E-A04E-BD200EE977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7B5-FEBC-4F8B-82C2-0EB2B39B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F94-9DF9-4E2B-B230-AA704310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4A2-6DC2-4661-B7C9-126429F2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E15-28AD-4069-A4AC-27D0D9C6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0D4-FD53-456A-B801-A020DC48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B4D-1E09-4DD6-85EE-518B72B9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AE3-A2CF-4631-ADE3-5BBCA158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B47-394A-47D6-921A-EEEB065D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6C3-069B-4078-BE7A-5174C5CD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C6A-8335-4FBB-B6C6-E8EACF1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D68-8F8D-4CE5-B66F-DC28C371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200-F66E-431F-8BDB-D47DC6A5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D1BE-B773-4AE5-A189-0EF1C5ADA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hapter 14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olution, bases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ønsted-Low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ar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nors, bases are proton accep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ono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acidic proton 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acidic protons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xy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idic proton is attached to an oxygen atom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rganic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se with a carbon atom backbone, contain the carboxyl group (-COOH). 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581280" y="1676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3580920" y="1752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35268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335232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42900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342864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er as an Acid and a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be amphoteric if it can behave either as an acid or as a base. Water i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mphote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t can behave either as an acid or a ba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2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on-product constant or dissociation constant for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at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n pur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chem5eart\ch14\fig14_07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066680" y="411480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pH Sc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lo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14.00 = pH + p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H = -log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chem5eart\ch14\fig14_08"/>
          <p:cNvPicPr/>
          <p:nvPr/>
        </p:nvPicPr>
        <p:blipFill>
          <a:blip r:embed="rId1"/>
          <a:stretch/>
        </p:blipFill>
        <p:spPr>
          <a:xfrm>
            <a:off x="3124080" y="304920"/>
            <a:ext cx="257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094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lculating the pH of Strong Aci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acid is completely dissociates in water producing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water also furnishes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utoionization by the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ure water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i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and in acidic solution even less than that. So the amount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d by water is negligible compared with the 1.0M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dissociation of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-log (1.0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05320" y="43434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3505320" y="4419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es that can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rite re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 (continu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change at equilibrium (as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concentrations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“easy w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rcent Dissociation (Ioniz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685800" y="3733920"/>
          <a:ext cx="792468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7924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chem5eart\ch14\fig14_10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57200" y="60199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chem5eart\ch14\fig14_01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102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362320" y="16765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 The Reaction of HCI a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chem5eart\ch14\fig14_02"/>
          <p:cNvPicPr/>
          <p:nvPr/>
        </p:nvPicPr>
        <p:blipFill>
          <a:blip r:embed="rId2"/>
          <a:stretch/>
        </p:blipFill>
        <p:spPr>
          <a:xfrm>
            <a:off x="457200" y="2438280"/>
            <a:ext cx="7848720" cy="1040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62320" y="3733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chem5eart\ch14\fig14_03"/>
          <p:cNvPicPr/>
          <p:nvPr/>
        </p:nvPicPr>
        <p:blipFill>
          <a:blip r:embed="rId3"/>
          <a:stretch/>
        </p:blipFill>
        <p:spPr>
          <a:xfrm>
            <a:off x="533520" y="4419720"/>
            <a:ext cx="79246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219320" y="5867280"/>
            <a:ext cx="693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3 The Reaction of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HCI to Form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substance that produces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 in aqueous s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onsted-Lowry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proton accep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re used in the same sense for bases as for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lete dissoc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ydroxide ion supplied to sol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very little dissoc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r reaction with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olyprot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 can furnish more than one proton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the solution. A polyprotic acid always dissociates in a stepwise manner, one proton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523880" y="3352680"/>
          <a:ext cx="6019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019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-Base Properties of Sa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504720" y="1219320"/>
          <a:ext cx="81327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219320"/>
                    <a:ext cx="8132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tructure and Acid-Bas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Polarit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igh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Streng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hem5eart\ch14\fig14_11"/>
          <p:cNvPicPr/>
          <p:nvPr/>
        </p:nvPicPr>
        <p:blipFill>
          <a:blip r:embed="rId1"/>
          <a:stretch/>
        </p:blipFill>
        <p:spPr>
          <a:xfrm>
            <a:off x="3352680" y="304920"/>
            <a:ext cx="201960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4.1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of the Number of Attached Oxygens on the O-H Bond in a Series of of Chlorine Oxyac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x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cidic Oxides (Acid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valent oxide dissolves in water an acidic solution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strong and cova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N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r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asic Oxides (Basic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onic oxide dissolves in water a basic solution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ion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, 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Lewis 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ac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do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143000" y="3962520"/>
          <a:ext cx="6400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400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chem5eart\ch14\7522n14_12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3311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2590920" y="541008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3 The AI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onjugate Acid/Base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verything that remains of the acid molecule after a proton is l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ormed when the proton is transferred to th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-base p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two substances related to each other by the donating and accepting of a single pro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Dissociation Constant (</a:t>
            </a: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cid dissociation constant. In dilute solution we can assume that the concentration of liquid water remains essentially constant when an acid is dis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600200" y="2590920"/>
          <a:ext cx="5715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90920"/>
                    <a:ext cx="5715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weak conjugate base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trong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388584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chem5eart\ch14\fig14_04"/>
          <p:cNvPicPr/>
          <p:nvPr/>
        </p:nvPicPr>
        <p:blipFill>
          <a:blip r:embed="rId1"/>
          <a:stretch/>
        </p:blipFill>
        <p:spPr>
          <a:xfrm>
            <a:off x="2286000" y="380880"/>
            <a:ext cx="447192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57200" y="609588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chem5eart\ch14\fig14_05"/>
          <p:cNvPicPr/>
          <p:nvPr/>
        </p:nvPicPr>
        <p:blipFill>
          <a:blip r:embed="rId1"/>
          <a:stretch/>
        </p:blipFill>
        <p:spPr>
          <a:xfrm>
            <a:off x="2971800" y="304920"/>
            <a:ext cx="3311640" cy="5867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219320" y="6248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lies far to the lef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weak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OCl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ganic acid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-COO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chem5eart\ch14\fig14_06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40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143000" y="609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7:25:12Z</dcterms:created>
  <dc:creator>Anwar A. Bhuiyan</dc:creator>
  <dc:description/>
  <dc:language>en-US</dc:language>
  <cp:lastModifiedBy>LEGION</cp:lastModifiedBy>
  <dcterms:modified xsi:type="dcterms:W3CDTF">2017-01-26T09:10:55Z</dcterms:modified>
  <cp:revision>9</cp:revision>
  <dc:subject/>
  <dc:title>Acids and Bases</dc:title>
</cp:coreProperties>
</file>